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DC39-538E-4701-8557-54DE6B144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EDFC-7886-4AC2-801A-25423EB9D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EFD-0B46-4499-A4E6-3CB68124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479-20C8-47A8-9A26-32496A52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2A0-C82B-4CEE-9185-B68BB2A5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862-D414-42C0-82A3-B722F210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43D-11EC-46D8-BBE4-7EACE8D7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88AF-47E6-48E2-88A8-63505E33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FB9-5FC6-441D-8901-80729585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20C-7017-43B7-BDBE-E1ECA21F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4FB-240E-4207-95B8-5F4F6D86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7C3-9AF3-41E8-9505-047D90D9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EA28-F37E-468C-AC96-C181AAB3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9EB5-BEC3-4C30-ADF3-E797FC74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958C-8272-41D0-9BDA-3E16A3543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380880" y="304920"/>
            <a:ext cx="7925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FLOODING IN SADC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A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1523880" y="2666880"/>
            <a:ext cx="6019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Eugene Poo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outh African Weathe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2" descr="Fish River bridge 1"/>
          <p:cNvPicPr/>
          <p:nvPr/>
        </p:nvPicPr>
        <p:blipFill>
          <a:blip r:embed="rId1"/>
          <a:stretch/>
        </p:blipFill>
        <p:spPr>
          <a:xfrm>
            <a:off x="5181480" y="38862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0" y="3879720"/>
            <a:ext cx="52578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hart 1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78400"/>
          </a:xfrm>
          <a:prstGeom prst="rect">
            <a:avLst/>
          </a:prstGeom>
          <a:ln w="0">
            <a:noFill/>
          </a:ln>
        </p:spPr>
      </p:pic>
      <p:pic>
        <p:nvPicPr>
          <p:cNvPr id="70" name="Chart 2" descr=""/>
          <p:cNvPicPr/>
          <p:nvPr/>
        </p:nvPicPr>
        <p:blipFill>
          <a:blip r:embed="rId2"/>
          <a:stretch/>
        </p:blipFill>
        <p:spPr>
          <a:xfrm>
            <a:off x="0" y="3584520"/>
            <a:ext cx="4572000" cy="3273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0" y="990360"/>
            <a:ext cx="4572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n SADC Floods follows second to epidemics in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hird to drought and wind storms on damage ca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ind storms mostly tropical cyclones, and winter frontal systems that also cause fl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R7,000 million flood damage caused by tropical cyclone Eline and Gloria in 2000 in Mozamb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3 times their 1999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art 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4035600"/>
          </a:xfrm>
          <a:prstGeom prst="rect">
            <a:avLst/>
          </a:prstGeom>
          <a:ln w="0">
            <a:noFill/>
          </a:ln>
        </p:spPr>
      </p:pic>
      <p:pic>
        <p:nvPicPr>
          <p:cNvPr id="73" name="Chart 2" descr=""/>
          <p:cNvPicPr/>
          <p:nvPr/>
        </p:nvPicPr>
        <p:blipFill>
          <a:blip r:embed="rId2"/>
          <a:stretch/>
        </p:blipFill>
        <p:spPr>
          <a:xfrm>
            <a:off x="4492800" y="2822400"/>
            <a:ext cx="46512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hart 1" descr=""/>
          <p:cNvPicPr/>
          <p:nvPr/>
        </p:nvPicPr>
        <p:blipFill>
          <a:blip r:embed="rId1"/>
          <a:stretch/>
        </p:blipFill>
        <p:spPr>
          <a:xfrm>
            <a:off x="2054160" y="0"/>
            <a:ext cx="4956120" cy="3273480"/>
          </a:xfrm>
          <a:prstGeom prst="rect">
            <a:avLst/>
          </a:prstGeom>
          <a:ln w="0">
            <a:noFill/>
          </a:ln>
        </p:spPr>
      </p:pic>
      <p:pic>
        <p:nvPicPr>
          <p:cNvPr id="75" name="Chart 2" descr=""/>
          <p:cNvPicPr/>
          <p:nvPr/>
        </p:nvPicPr>
        <p:blipFill>
          <a:blip r:embed="rId2"/>
          <a:stretch/>
        </p:blipFill>
        <p:spPr>
          <a:xfrm>
            <a:off x="0" y="3279600"/>
            <a:ext cx="4572000" cy="3578400"/>
          </a:xfrm>
          <a:prstGeom prst="rect">
            <a:avLst/>
          </a:prstGeom>
          <a:ln w="0">
            <a:noFill/>
          </a:ln>
        </p:spPr>
      </p:pic>
      <p:pic>
        <p:nvPicPr>
          <p:cNvPr id="76" name="Chart 3" descr=""/>
          <p:cNvPicPr/>
          <p:nvPr/>
        </p:nvPicPr>
        <p:blipFill>
          <a:blip r:embed="rId3"/>
          <a:stretch/>
        </p:blipFill>
        <p:spPr>
          <a:xfrm>
            <a:off x="4724280" y="3273480"/>
            <a:ext cx="45720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mpact on SA, Mozambique, Zambia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requency of natural disast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Most frequent natural disaster in SA and Mozambique, second to  epidemics in Zam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eaths from natural disast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Mozambique 37% of deaths, SA 62%, Zambia un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Affecting people (injured, displac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Drought affects most people (slow and long-lasting dis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Floods second in Zambia 50% (about 3 million people) and in Mozambique 33% (about 8 million peo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n Mozambique about 30 people per square km stay in flood prone river bas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rends of flood occurrences in SADC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240" y="12193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ollowing global trends, floods have increased in S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984 - 1988: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994 – 1998: 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999 – 2003: 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ramatic increase in number of people affected and di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984 – 1988: 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998 – 2003: 1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Particularly elderly, women and children are aff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his upward trend i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Growth in urban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Population growth in flood prone river basins (nutritious and water ri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Flooding in SADC –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Future Patterns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rom reports by the IPCC Assessment Report 4, and WMO: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Great deal of uncertainty on the impact of climate change on flooding in S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lood risk is also controlled by other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hanges in economic and social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hanges of hydrological aspects such as vegetation and soil moisture in bas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Land-use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Defore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eduction in wet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0" y="6019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IPCC: Intergovernmental Panel on Climate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PCC: Precipitation intensity expected to increase virtually everywhere (though parts of SA expected to be drier and war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 warmer climate with increased variability will increase the risk of both floods and drought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Increase in precipitation intensity and frequency will lead to increase in risk of flooding and droughts in many are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Flood magnitudes and frequencies are likely to increase in most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Status of Flood Forecasting in SADC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824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istinguish broadly between two kinds of floods: Large scale river floods, and Flash fl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Large scale river floods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ccur in large river basins from large scale heavy rain (Orange, Vaal, Limpopo, Zambezi Riv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Long response time (6 hours to many days) between heavy rain and flo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omplex hydrologic models calculating river levels as the flood moves down the river over the next few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ituation in SAD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utside SA there is a general lack of river forecast systems due to limited rainfall data and river monitor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A is implementing a river forecasting system in the Vaal 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USA developed a crude satellite based system for Limpopo following 2000 fl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me effort in Zambe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533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omic Sans MS"/>
              </a:rPr>
              <a:t>OUTLINE OF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80880" y="2209680"/>
            <a:ext cx="8763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Global perspective of fl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looding in SADC - Historical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looding in SADC – Future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tatus of flood forecasting in SA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impopo River Basin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0" t="6535" r="0" b="9124"/>
          <a:stretch/>
        </p:blipFill>
        <p:spPr>
          <a:xfrm>
            <a:off x="457200" y="1447920"/>
            <a:ext cx="8381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04920" y="8377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Flash floods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ccur in small river basins (50 – 200 square k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Quick response (&lt;6 hours) between heavy rain and flo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raditional hydrologic models ineffective due to small lea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ainfall measurements on hourly basis using rain gauges and weather radars and satellites are very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Promising system implemented in Central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ituation in S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here is currently no flash flood warning system op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eal time rainfall measurement only in South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Very few weather radars outside SA (Mozambique has 2, Botswana has 1) and their coverage not su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A is investigating implementation of Central American system under radar coverage in flood prone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xample of the Central American flash flood warning system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" descr="ev-riesgo-021005-00z-nuevo"/>
          <p:cNvPicPr/>
          <p:nvPr/>
        </p:nvPicPr>
        <p:blipFill>
          <a:blip r:embed="rId2"/>
          <a:stretch/>
        </p:blipFill>
        <p:spPr>
          <a:xfrm>
            <a:off x="914400" y="1260360"/>
            <a:ext cx="731520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Way Forward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1. Integrated Flood Management as a comprehensive solution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52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unich Re: “It is not possible to prevent disasters, we rather need to learn to live with th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MO developed an Integrated Flood Management program as part of a holistic disaster risk management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Early warn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cio-economic activities to balance needs and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tructural solutions such as levees and d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Non-structural measures such as land-use re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wareness raising of population and gover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is approach should be strongly 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2. Early Warning through Flood Forecasting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MO emphasizes that the most critical aspect of a flood-loss reduction strategy, lies in emergency preparedness and response, particularly </a:t>
            </a:r>
            <a:r>
              <a:rPr b="0" i="1" lang="en-US" sz="2400" spc="-1" strike="noStrike">
                <a:solidFill>
                  <a:srgbClr val="000099"/>
                </a:solidFill>
                <a:latin typeface="Comic Sans MS"/>
              </a:rPr>
              <a:t>a flood forecasting and warn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his requires collaboration between meteorologists, hydrologists and disaster managers, and between count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5331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orecasting for large scale river flo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Development of comprehensive hydrologic river forecasting models for the large basins (Limpopo, Zambesi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Long-term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Depends heavily on the improvement of rainfall measurement and river level monitoring in all riparian countries of river bas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n example is the efforts by the Limpopo Basin Com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Investigate more crude interim measure such as the US satellite based system to provide some kind of gu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Easier to implement since it does not depend on surfac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But, it is less accurate because it uses only remote observations by satellite and not re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orecasting for flash flo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uth Africa is investigating the implementation of a flash flood warning system based on the Central American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Can operate under the radar coverage in flash flood prone basins of 50 to 100 square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Complement the SAWS current early warn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MO is planning the development of a global flash flood warning system (FFGS) based on the Central American system, but using only satelli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Can be rolled out where no surface data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Can only work for larger basins of about 200 square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Will be implemented on a regional basis (like SADC) in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SAWS as a RSMC can play a pivotal role in this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3. Enhancing data measuring 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Reliable weather and hydrological data is an essential system for flood forecast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Particularly rainfall and river flow and water level monito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MO operates the SADC-HYCOS program aimed at improving hydrological monitoring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National meteorological services must continuously improve their existing rainfall networks substant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his depends heavily on funding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wnf 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304920" y="485640"/>
            <a:ext cx="8642160" cy="6067800"/>
          </a:xfrm>
          <a:prstGeom prst="rect">
            <a:avLst/>
          </a:prstGeom>
          <a:solidFill>
            <a:srgbClr val="f2dcdb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omic Sans MS"/>
              </a:rPr>
              <a:t>FOR THERE IS NO NOAH AMONG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For there is no Noah among us, let us do it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Let us not attempt to cross flooded rivers.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Let us not build our homes on river banks.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Let us not build our homes on low land.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Let us fill gullies and stop them from becoming rivers.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For there is no Noah among us, let us protect  ourselves from fl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Poem by Nokuthula Nd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Grade 6 Pup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Shashi Primary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Maramani Communa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Bei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Zimbab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Global Perspective of Floods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he number of flood disasters by country from 1974 to 2003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http://www.em-dat.net/documents/Maps/EM-DAT-floodsbycountry1974-2003.jpg"/>
          <p:cNvPicPr/>
          <p:nvPr/>
        </p:nvPicPr>
        <p:blipFill>
          <a:blip r:embed="rId2"/>
          <a:srcRect l="0" t="12465" r="0" b="0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loods are worldwide a major ha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use death of on average 7000 people every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MO – of all natural hazard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loods has greatest damage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over 1/3 of total da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Affect the greatest number of people  (over 2/3 of people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mpact is increasing rapi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http://www.em-dat.net/disasters/Visualisation/tmp/emdatfigure-bar19583.jpg?cachekiller=0c48b729492c0de55eaa0813f90b0efe"/>
          <p:cNvPicPr/>
          <p:nvPr/>
        </p:nvPicPr>
        <p:blipFill>
          <a:blip r:embed="rId1"/>
          <a:srcRect l="0" t="4102" r="0" b="0"/>
          <a:stretch/>
        </p:blipFill>
        <p:spPr>
          <a:xfrm>
            <a:off x="0" y="2403360"/>
            <a:ext cx="9144000" cy="4454640"/>
          </a:xfrm>
          <a:prstGeom prst="rect">
            <a:avLst/>
          </a:prstGeom>
          <a:ln w="0">
            <a:noFill/>
          </a:ln>
        </p:spPr>
      </p:pic>
      <p:sp>
        <p:nvSpPr>
          <p:cNvPr id="61" name="Title 1"/>
          <p:cNvSpPr/>
          <p:nvPr/>
        </p:nvSpPr>
        <p:spPr>
          <a:xfrm>
            <a:off x="1066680" y="99072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requency of worldwide flood disa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88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eveloping countries are more vulner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cial and economic vulne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educed coping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Rural people are most vuln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95% of deaths occurred in least developing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8 SADC countries are least developing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mpact on Developing Countries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Flooding in SADC –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Historical Patterns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rcRect l="7032" t="15627" r="15619" b="16754"/>
          <a:stretch/>
        </p:blipFill>
        <p:spPr>
          <a:xfrm>
            <a:off x="3218040" y="1981080"/>
            <a:ext cx="5925960" cy="3886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0" y="76320"/>
            <a:ext cx="8153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looding events between 1985 and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Occur mostly along southern and eastern parts of the subconti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us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ropical weather systems moving westwards in su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old fronts and cut-off lows in w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3:19Z</dcterms:created>
  <dc:creator>Eugene</dc:creator>
  <dc:description/>
  <dc:language>en-US</dc:language>
  <cp:lastModifiedBy>Στέλιος Ταμβακίδης</cp:lastModifiedBy>
  <dcterms:modified xsi:type="dcterms:W3CDTF">2023-01-23T11:25:07Z</dcterms:modified>
  <cp:revision>206</cp:revision>
  <dc:subject/>
  <dc:title>PowerPoint Presentation</dc:title>
</cp:coreProperties>
</file>