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9FF8-A6E1-4F24-805A-24E6D25E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B89B-538F-4AB6-A870-14D54175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9C8-C7F8-4A60-AADF-1B224D5B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684-FA9C-4D1E-91B3-3FF084D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8E3-AB52-4960-8D9B-A8963BEB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374-8DB1-4ACD-B2C6-9E972F87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8D0-AAB4-4D64-8A0B-FF06FD1E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731-A1E7-447D-B8F8-66F74AE8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E61-FC8D-4C54-A415-0AD998E2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905-BE06-4295-9BC6-950E5AA2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BC2-4A3F-4A7C-BF3E-85F01A75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57F-A6FD-4EE8-BFD7-8C190DB6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87C-BE91-4B68-BAC9-4FBCA88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FDA-25E8-4728-89CB-8676D7A8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8985-1795-4ED8-ABF9-B81D4EC0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80880" y="30492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FLOODING IN SAD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523880" y="2666880"/>
            <a:ext cx="6019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Eugene Poo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outh African Weath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Fish River bridge 1"/>
          <p:cNvPicPr/>
          <p:nvPr/>
        </p:nvPicPr>
        <p:blipFill>
          <a:blip r:embed="rId1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0" y="3879720"/>
            <a:ext cx="52578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70" name="Chart 2" descr=""/>
          <p:cNvPicPr/>
          <p:nvPr/>
        </p:nvPicPr>
        <p:blipFill>
          <a:blip r:embed="rId2"/>
          <a:stretch/>
        </p:blipFill>
        <p:spPr>
          <a:xfrm>
            <a:off x="0" y="3584520"/>
            <a:ext cx="4572000" cy="327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0" y="9903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 SADC Floods follows second to epidemics in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rd to drought and wind storms on damage c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ind storms mostly tropical cyclones, and winter frontal systems that also cause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7,000 million flood damage caused by tropical cyclone Eline and Gloria in 2000 in Mozamb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3 times their 1999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art 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4035600"/>
          </a:xfrm>
          <a:prstGeom prst="rect">
            <a:avLst/>
          </a:prstGeom>
          <a:ln w="0">
            <a:noFill/>
          </a:ln>
        </p:spPr>
      </p:pic>
      <p:pic>
        <p:nvPicPr>
          <p:cNvPr id="73" name="Chart 2" descr=""/>
          <p:cNvPicPr/>
          <p:nvPr/>
        </p:nvPicPr>
        <p:blipFill>
          <a:blip r:embed="rId2"/>
          <a:stretch/>
        </p:blipFill>
        <p:spPr>
          <a:xfrm>
            <a:off x="4492800" y="2822400"/>
            <a:ext cx="46512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art 1" descr=""/>
          <p:cNvPicPr/>
          <p:nvPr/>
        </p:nvPicPr>
        <p:blipFill>
          <a:blip r:embed="rId1"/>
          <a:stretch/>
        </p:blipFill>
        <p:spPr>
          <a:xfrm>
            <a:off x="2054160" y="0"/>
            <a:ext cx="4956120" cy="3273480"/>
          </a:xfrm>
          <a:prstGeom prst="rect">
            <a:avLst/>
          </a:prstGeom>
          <a:ln w="0">
            <a:noFill/>
          </a:ln>
        </p:spPr>
      </p:pic>
      <p:pic>
        <p:nvPicPr>
          <p:cNvPr id="75" name="Chart 2" descr=""/>
          <p:cNvPicPr/>
          <p:nvPr/>
        </p:nvPicPr>
        <p:blipFill>
          <a:blip r:embed="rId2"/>
          <a:stretch/>
        </p:blipFill>
        <p:spPr>
          <a:xfrm>
            <a:off x="0" y="327960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76" name="Chart 3" descr=""/>
          <p:cNvPicPr/>
          <p:nvPr/>
        </p:nvPicPr>
        <p:blipFill>
          <a:blip r:embed="rId3"/>
          <a:stretch/>
        </p:blipFill>
        <p:spPr>
          <a:xfrm>
            <a:off x="4724280" y="327348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mpact on SA, Mozambique, Zambia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requency of natural disas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ost frequent natural disaster in SA and Mozambique, second to  epidemics in Zam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eaths from natural disas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ozambique 37% of deaths, SA 62%, Zambia un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ffecting people (injured, displac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rought affects most people (slow and long-lasting dis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loods second in Zambia 50% (about 3 million people) and in Mozambique 33% (about 8 million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 Mozambique about 30 people per square km stay in flood prone river bas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rends of flood occurrences in SADC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llowing global trends, floods have increased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84 - 1988: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4 – 1998: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9 – 2003: 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ramatic increase in number of people affected and d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84 – 1988: 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998 – 2003: 1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Particularly elderly, women and children are a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upward trend i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Growth in urban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opulation growth in flood prone river basins (nutritious and water ri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looding in SADC –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uture Patter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om reports by the IPCC Assessment Report 4, and WMO: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Great deal of uncertainty on the impact of climate change on flooding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 risk is also controlled by other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nges in economic and socia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nges of hydrological aspects such as vegetation and soil moisture in ba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Land-use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duction in wet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0" y="6019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PCC: Intergovernmental Panel on 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PCC: Precipitation intensity expected to increase virtually everywhere (though parts of SA expected to be drier and war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 warmer climate with increased variability will increase the risk of both floods and drough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ncrease in precipitation intensity and frequency will lead to increase in risk of flooding and droughts in many are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lood magnitudes and frequencies are likely to increase in most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Status of Flood Forecasting in SADC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82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inguish broadly between two kinds of floods: Large scale river floods, and Flash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Large scale river flood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ccur in large river basins from large scale heavy rain (Orange, Vaal, Limpopo, Zambezi Riv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Long response time (6 hours to many days) between heavy rain and flo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omplex hydrologic models calculating river levels as the flood moves down the river over the next few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ituation in SAD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utside SA there is a general lack of river forecast systems due to limited rainfall data and river monitor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A is implementing a river forecasting system in the Vaal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A developed a crude satellite based system for Limpopo following 2000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me effort in Zambe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omic Sans MS"/>
              </a:rPr>
              <a:t>OUTLINE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80880" y="2209680"/>
            <a:ext cx="8763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Global perspective of fl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looding in SADC - Historical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looding in SADC – Futur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tatus of flood forecasting in SA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impopo River Basin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6535" r="0" b="9124"/>
          <a:stretch/>
        </p:blipFill>
        <p:spPr>
          <a:xfrm>
            <a:off x="457200" y="144792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lash flood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ccur in small river basins (50 – 200 square 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Quick response (&lt;6 hours) between heavy rain and flo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raditional hydrologic models ineffective due to small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ainfall measurements on hourly basis using rain gauges and weather radars and satellites are very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romising system implemented in Central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ituation in S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re is currently no flash flood warning system 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al time rainfall measurement only in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Very few weather radars outside SA (Mozambique has 2, Botswana has 1) and their coverage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A is investigating implementation of Central American system under radar coverage in flood pron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xample of the Central American flash flood warning system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ev-riesgo-021005-00z-nuevo"/>
          <p:cNvPicPr/>
          <p:nvPr/>
        </p:nvPicPr>
        <p:blipFill>
          <a:blip r:embed="rId2"/>
          <a:stretch/>
        </p:blipFill>
        <p:spPr>
          <a:xfrm>
            <a:off x="914400" y="1260360"/>
            <a:ext cx="73152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Way Forward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. Integrated Flood Management as a comprehensive solution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unich Re: “It is not possible to prevent disasters, we rather need to learn to live with th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developed an Integrated Flood Management program as part of a holistic disaster risk managem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Early warn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cio-economic activities to balance needs and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ructural solutions such as levees and d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on-structural measures such as land-use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wareness raising of population and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is approach should be strongly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2. Early Warning through Flood Forecasting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emphasizes that the most critical aspect of a flood-loss reduction strategy, lies in emergency preparedness and response, particularly </a:t>
            </a: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a flood forecasting and warn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requires collaboration between meteorologists, hydrologists and disaster managers, and between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recasting for large scale river flo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evelopment of comprehensive hydrologic river forecasting models for the large basins (Limpopo, Zambesi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Long-term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epends heavily on the improvement of rainfall measurement and river level monitoring in all riparian countries of river bas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n example is the efforts by the Limpopo Basi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nvestigate more crude interim measure such as the US satellite based system to provide some kind of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asier to implement since it does not depend on surfa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ut, it is less accurate because it uses only remote observations by satellite and not re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recasting for flash flo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uth Africa is investigating the implementation of a flash flood warning system based on the Central American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operate under the radar coverage in flash flood prone basins of 50 to 100 square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omplement the SAWS current early warn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MO is planning the development of a global flash flood warning system (FFGS) based on the Central American system, but using only satelli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be rolled out where no surface data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an only work for larger basins of about 200 square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Will be implemented on a regional basis (like SADC) in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SAWS as a RSMC can play a pivotal role in this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3. Enhancing data measuring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eliable weather and hydrological data is an essential system for flood forecas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Particularly rainfall and river flow and water level monito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operates the SADC-HYCOS program aimed at improving hydrological monitor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ational meteorological services must continuously improve their existing rainfall networks substan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s depends heavily on funding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wnf 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04920" y="485640"/>
            <a:ext cx="8642160" cy="6067800"/>
          </a:xfrm>
          <a:prstGeom prst="rect">
            <a:avLst/>
          </a:prstGeom>
          <a:solidFill>
            <a:srgbClr val="f2dcd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omic Sans MS"/>
              </a:rPr>
              <a:t>FOR THERE IS NO NOAH AMONG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For there is no Noah among us, let us do it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Let us not attempt to cross flooded river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not build our homes on river bank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not build our homes on low land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Let us fill gullies and stop them from becoming rivers.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For there is no Noah among us, let us protect  ourselves from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Poem by Nokuthula Nd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Grade 6 Pu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Shashi 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Maramani Commun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Bei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Global Perspective of Flood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e number of flood disasters by country from 1974 to 2003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http://www.em-dat.net/documents/Maps/EM-DAT-floodsbycountry1974-2003.jpg"/>
          <p:cNvPicPr/>
          <p:nvPr/>
        </p:nvPicPr>
        <p:blipFill>
          <a:blip r:embed="rId2"/>
          <a:srcRect l="0" t="12465" r="0" b="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s are worldwide a major ha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use death of on average 7000 people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MO – of all natural hazar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loods has greatest damage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over 1/3 of total 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ffect the greatest number of people  (over 2/3 of people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mpact is increasing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http://www.em-dat.net/disasters/Visualisation/tmp/emdatfigure-bar19583.jpg?cachekiller=0c48b729492c0de55eaa0813f90b0efe"/>
          <p:cNvPicPr/>
          <p:nvPr/>
        </p:nvPicPr>
        <p:blipFill>
          <a:blip r:embed="rId1"/>
          <a:srcRect l="0" t="4102" r="0" b="0"/>
          <a:stretch/>
        </p:blipFill>
        <p:spPr>
          <a:xfrm>
            <a:off x="0" y="2403360"/>
            <a:ext cx="9144000" cy="4454640"/>
          </a:xfrm>
          <a:prstGeom prst="rect">
            <a:avLst/>
          </a:prstGeom>
          <a:ln w="0">
            <a:noFill/>
          </a:ln>
        </p:spPr>
      </p:pic>
      <p:sp>
        <p:nvSpPr>
          <p:cNvPr id="61" name="Title 1"/>
          <p:cNvSpPr/>
          <p:nvPr/>
        </p:nvSpPr>
        <p:spPr>
          <a:xfrm>
            <a:off x="1066680" y="9907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equency of worldwide flood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eveloping countries are more vulner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cial and economic vuln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duced coping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ural people are most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95% of deaths occurred in least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8 SADC countries are least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mpact on Developing Countries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looding in SADC –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Historical Patter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7032" t="15627" r="15619" b="16754"/>
          <a:stretch/>
        </p:blipFill>
        <p:spPr>
          <a:xfrm>
            <a:off x="3218040" y="1981080"/>
            <a:ext cx="592596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763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looding events between 1985 and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ccur mostly along southern and eastern parts of the subcont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us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ropical weather systems moving westwards in 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old fronts and cut-off lows in 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3:19Z</dcterms:created>
  <dc:creator>Eugene</dc:creator>
  <dc:description/>
  <dc:language>en-US</dc:language>
  <cp:lastModifiedBy>Στέλιος Ταμβακίδης</cp:lastModifiedBy>
  <dcterms:modified xsi:type="dcterms:W3CDTF">2023-01-23T11:25:07Z</dcterms:modified>
  <cp:revision>206</cp:revision>
  <dc:subject/>
  <dc:title>PowerPoint Presentation</dc:title>
</cp:coreProperties>
</file>